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68F2C-F8C4-40BA-97FE-96CB12B33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B9DCC-BF88-4F39-BC24-2F6794938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BEBA3-2E91-46FA-BEBD-DE89E659D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85916-C24F-4F9C-AAA8-59DFF49ED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B265E-4AC7-4846-88B0-C9B786559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EB415-5682-42EC-B2E5-207CDA196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32F86-D965-47EF-9466-78E99EFA6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8F1A5-D1B7-4A2E-84F8-0DC306FA8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0F2EA-CFDA-48F4-8A0D-07681FAF8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7B72E-CACA-4CEB-A0BD-01B4E012C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4654F-A55C-48D1-AE7E-3FAFD8FC7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35CBE-EC7A-4DBC-97F5-7748538B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62736-0759-406B-9FBA-5A3BB8B56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8E66A-9654-4295-8CCC-4FE55B155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8BA75-9598-4102-8533-1161B9C99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70954-8DD8-4BE2-A360-F021C2E95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C0337-6DE3-4209-B867-B71092C1D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3BAC8-F0F4-4F82-B994-55CEB12EB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FE65F-EF46-4293-87E2-94CDBC1B9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A72AC-E2C9-4DE4-B9D6-CB33B6923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50A9F-1FAD-4FE3-90C9-11B9F8B80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0A3D-7B4D-4D29-A426-6A5CC7714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2EDB-C7BA-4B89-A545-E5D5F87BC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34114-F9D4-456B-8B3F-ACDFF3DFF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10BD-6233-40FE-9BA7-729AE21E9ED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CA2F-6FA3-4B9F-A55A-BFC04648539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alphaModFix amt="27000"/>
          </a:blip>
          <a:stretch/>
        </p:blipFill>
        <p:spPr>
          <a:xfrm>
            <a:off x="1447920" y="1066680"/>
            <a:ext cx="6400800" cy="4419720"/>
          </a:xfrm>
          <a:prstGeom prst="rect">
            <a:avLst/>
          </a:prstGeom>
          <a:ln w="0">
            <a:noFill/>
          </a:ln>
        </p:spPr>
      </p:pic>
      <p:sp>
        <p:nvSpPr>
          <p:cNvPr id="100" name="PlaceHolder 1"/>
          <p:cNvSpPr>
            <a:spLocks noGrp="1"/>
          </p:cNvSpPr>
          <p:nvPr>
            <p:ph type="title"/>
          </p:nvPr>
        </p:nvSpPr>
        <p:spPr>
          <a:xfrm>
            <a:off x="990720" y="228240"/>
            <a:ext cx="7772400" cy="1523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Verdana"/>
              </a:rPr>
              <a:t>National Indian Business Associatio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057400"/>
            <a:ext cx="6400800" cy="358128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To Develop A Management and Sales Plan</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2002 by National Indian Business Association Staff</a:t>
            </a:r>
            <a:endParaRPr b="0" lang="en-US" sz="1800" spc="-1" strike="noStrike">
              <a:solidFill>
                <a:srgbClr val="000000"/>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 Rights Reserved</a:t>
            </a:r>
            <a:endParaRPr b="0" lang="en-US" sz="1800" spc="-1" strike="noStrike">
              <a:solidFill>
                <a:srgbClr val="000000"/>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publication was prepared by</a:t>
            </a:r>
            <a:endParaRPr b="0" lang="en-US" sz="1800" spc="-1" strike="noStrike">
              <a:solidFill>
                <a:srgbClr val="000000"/>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ational Indian Business Association Staff</a:t>
            </a:r>
            <a:endParaRPr b="0" lang="en-US" sz="1800" spc="-1" strike="noStrike">
              <a:solidFill>
                <a:srgbClr val="000000"/>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yles of Management (cont’d.)</a:t>
            </a:r>
            <a:endParaRPr b="0" lang="en-US" sz="32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n-book management</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book management teaches that “informed employees” are capable of making key decisions that are usually reserved for management — within, that is, their areas of expertise.  An “informed employee” is one who is privy to nearly everything that goes on within the company, including a variety of tools usually reserved for management, including financial statements.  Informed employees tend to make better day-to-day decisions that uninformed ones.  Informed employees are also more likely to be committed to the cause — in this case to increasing the profitability of their compan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E5CCA9C-71EF-432D-956A-A8C53D09D7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yles of Management (cont’d.)</a:t>
            </a:r>
            <a:endParaRPr b="0" lang="en-US" sz="3200" spc="-1" strike="noStrike">
              <a:solidFill>
                <a:srgbClr val="333399"/>
              </a:solidFill>
              <a:latin typeface="Tahoma"/>
            </a:endParaRPr>
          </a:p>
        </p:txBody>
      </p:sp>
      <p:sp>
        <p:nvSpPr>
          <p:cNvPr id="121" name="PlaceHolder 2"/>
          <p:cNvSpPr>
            <a:spLocks noGrp="1"/>
          </p:cNvSpPr>
          <p:nvPr>
            <p:ph/>
          </p:nvPr>
        </p:nvSpPr>
        <p:spPr>
          <a:xfrm>
            <a:off x="1182600" y="1904760"/>
            <a:ext cx="7772400" cy="42274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ry X management:</a:t>
            </a:r>
            <a:r>
              <a:rPr b="0" lang="en-US" sz="2000" spc="-1" strike="noStrike">
                <a:solidFill>
                  <a:srgbClr val="000000"/>
                </a:solidFill>
                <a:latin typeface="Verdana"/>
              </a:rPr>
              <a:t> which assumes that people are inherently lazy and need to be driven to perform.  When you closely monitor your employees’ work, you usually end up with only short-term compliance.</a:t>
            </a:r>
            <a:endParaRPr b="0" lang="en-US" sz="2000" spc="-1" strike="noStrike">
              <a:solidFill>
                <a:srgbClr val="000000"/>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ry Y management:</a:t>
            </a:r>
            <a:r>
              <a:rPr b="0" lang="en-US" sz="2000" spc="-1" strike="noStrike">
                <a:solidFill>
                  <a:srgbClr val="000000"/>
                </a:solidFill>
                <a:latin typeface="Verdana"/>
              </a:rPr>
              <a:t> assumes that people basically want to do a good job.  This style of management is known as the “nice guy management.”</a:t>
            </a:r>
            <a:endParaRPr b="0" lang="en-US" sz="2000" spc="-1" strike="noStrike">
              <a:solidFill>
                <a:srgbClr val="000000"/>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p:</a:t>
            </a:r>
            <a:r>
              <a:rPr b="0" lang="en-US" sz="2000" spc="-1" strike="noStrike">
                <a:solidFill>
                  <a:srgbClr val="000000"/>
                </a:solidFill>
                <a:latin typeface="Verdana"/>
              </a:rPr>
              <a:t> the ideal compromise, good managers realize that they don’t have to be tough guys all the time — and that nice guys often finish first.  If your employees are diligently performing their assigned task and no business emergency requires your immediate intervention, you can step back and let them do their jobs.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FD5F981-9540-4052-AFA3-352E5B088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yles of Management (cont’d.)</a:t>
            </a:r>
            <a:endParaRPr b="0" lang="en-US" sz="32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member:</a:t>
            </a:r>
            <a:r>
              <a:rPr b="0" lang="en-US" sz="2000" spc="-1" strike="noStrike">
                <a:solidFill>
                  <a:srgbClr val="000000"/>
                </a:solidFill>
                <a:latin typeface="Verdana"/>
              </a:rPr>
              <a:t>  The </a:t>
            </a:r>
            <a:r>
              <a:rPr b="0" i="1" lang="en-US" sz="2000" spc="-1" strike="noStrike">
                <a:solidFill>
                  <a:srgbClr val="000000"/>
                </a:solidFill>
                <a:latin typeface="Verdana"/>
              </a:rPr>
              <a:t>real</a:t>
            </a:r>
            <a:r>
              <a:rPr b="0" lang="en-US" sz="2000" spc="-1" strike="noStrike">
                <a:solidFill>
                  <a:srgbClr val="000000"/>
                </a:solidFill>
                <a:latin typeface="Verdana"/>
              </a:rPr>
              <a:t> job of a manager is to inspire employees to be their best and establish a working environment that allows them to be their best.  The best managers make every possible effort to remove the organizational obstacles that prevent employees from doing their jobs and to obtain the resources and training that employees need to do their jobs effectively.  All other goals — no matter how loft or pressing — must take a back se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8A0E3E2-55FD-4DA6-A877-B909DFDA1C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yles of Management (cont’d.)</a:t>
            </a:r>
            <a:endParaRPr b="0" lang="en-US" sz="32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member:</a:t>
            </a:r>
            <a:r>
              <a:rPr b="0" lang="en-US" sz="2000" spc="-1" strike="noStrike">
                <a:solidFill>
                  <a:srgbClr val="000000"/>
                </a:solidFill>
                <a:latin typeface="Verdana"/>
              </a:rPr>
              <a:t> Bad systems, bad policies, bad procedures, and poor treatment of others are organizational weaknesses that managers must be talented at identifying and repairing or replacing.  Build a strong organizational foundation for your employees.  Support your people, and they will support you.  Time and time again, when given the opportunity to achieve, workers in all kinds of business — have proven this rule to be true.</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is an attitude — a way of life.  It’s a very real desire to work with people and help them succeed, as well as a desire to help your organization succeed.  Management is a life-long learning proces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F8F2594-7C2A-429F-A02F-E9D63FB655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yles of Management (cont’d.)</a:t>
            </a:r>
            <a:endParaRPr b="0" lang="en-US" sz="32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is a </a:t>
            </a:r>
            <a:r>
              <a:rPr b="0" i="1" lang="en-US" sz="2000" spc="-1" strike="noStrike">
                <a:solidFill>
                  <a:srgbClr val="000000"/>
                </a:solidFill>
                <a:latin typeface="Verdana"/>
              </a:rPr>
              <a:t>people </a:t>
            </a:r>
            <a:r>
              <a:rPr b="0" lang="en-US" sz="2000" spc="-1" strike="noStrike">
                <a:solidFill>
                  <a:srgbClr val="000000"/>
                </a:solidFill>
                <a:latin typeface="Verdana"/>
              </a:rPr>
              <a:t>job.  If you’re not up to the task of working with people — helping them, listening to them, encouraging them, and guiding them — then you shouldn’t be a manager.</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places greater emphasis on the human being in the organization; it focuses attention on the </a:t>
            </a:r>
            <a:r>
              <a:rPr b="0" i="1" lang="en-US" sz="2000" spc="-1" strike="noStrike">
                <a:solidFill>
                  <a:srgbClr val="000000"/>
                </a:solidFill>
                <a:latin typeface="Verdana"/>
              </a:rPr>
              <a:t>results</a:t>
            </a:r>
            <a:r>
              <a:rPr b="0" lang="en-US" sz="2000" spc="-1" strike="noStrike">
                <a:solidFill>
                  <a:srgbClr val="000000"/>
                </a:solidFill>
                <a:latin typeface="Verdana"/>
              </a:rPr>
              <a:t> to be accomplished, on objectives, rather than just things or activities.  Management adds the concept that accomplishment of the employees’ personal objectives should be integrated with accomplishment of the business’s objectiv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130A83D-16A9-44F3-8246-E2FCB80425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An Overview Of The Functions Of Management</a:t>
            </a:r>
            <a:endParaRPr b="0" lang="en-US" sz="32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8128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anagement Process</a:t>
            </a:r>
            <a:endParaRPr b="0" lang="en-US" sz="1800" spc="-1" strike="noStrike">
              <a:solidFill>
                <a:srgbClr val="000000"/>
              </a:solidFill>
              <a:latin typeface="Tahoma"/>
            </a:endParaRPr>
          </a:p>
          <a:p>
            <a:pPr marL="812880" indent="-812880" algn="just">
              <a:lnSpc>
                <a:spcPct val="90000"/>
              </a:lnSpc>
              <a:spcBef>
                <a:spcPts val="451"/>
              </a:spcBef>
              <a:buClr>
                <a:srgbClr val="3333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NING</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  Strategic Planning</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1.  Setting Goals</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  Operational Planning</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1.  Defining objectives</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2.  Designing the organization in the best</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way to achieve the goals and objectives.</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3.  Assigning Responsibility</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4.  Allocating Resources</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5. Designing organizational controls (timetables</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and measures of the organization’s</a:t>
            </a:r>
            <a:endParaRPr b="0" lang="en-US" sz="1800" spc="-1" strike="noStrike">
              <a:solidFill>
                <a:srgbClr val="000000"/>
              </a:solidFill>
              <a:latin typeface="Tahoma"/>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erformance as a whol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37F9AB2-9521-4E21-BD23-61267263C0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An Overview Of The Functions Of Management (cont’d.)</a:t>
            </a:r>
            <a:endParaRPr b="0" lang="en-US" sz="32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812880" algn="just">
              <a:lnSpc>
                <a:spcPct val="90000"/>
              </a:lnSpc>
              <a:spcBef>
                <a:spcPts val="499"/>
              </a:spcBef>
              <a:buClr>
                <a:srgbClr val="3333cc"/>
              </a:buClr>
              <a:buSzPct val="60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LING</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Management Control (ensuring efficient and</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effective use of resources)</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  Developing individual standards</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  Designing project controls (such as work</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lans and milestone charts)</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  Motivating</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4.  Monitoring</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  Reviewing Progress</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6.  Solving Problems</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7.  Coaching and Counseling</a:t>
            </a:r>
            <a:endParaRPr b="0" lang="en-US" sz="2000" spc="-1" strike="noStrike">
              <a:solidFill>
                <a:srgbClr val="000000"/>
              </a:solidFill>
              <a:latin typeface="Tahoma"/>
            </a:endParaRPr>
          </a:p>
          <a:p>
            <a:pPr marL="81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8.  Performance Appraisa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6165FBD-C19D-4EA1-9E02-290152EC0C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An Overview Of The Functions Of Management (cont’d.)</a:t>
            </a:r>
            <a:endParaRPr b="0" lang="en-US" sz="32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11685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Operational Control (ensuring that specific tasks</a:t>
            </a:r>
            <a:endParaRPr b="0" lang="en-US" sz="2000" spc="-1" strike="noStrike">
              <a:solidFill>
                <a:srgbClr val="000000"/>
              </a:solidFill>
              <a:latin typeface="Tahoma"/>
            </a:endParaRPr>
          </a:p>
          <a:p>
            <a:pPr lvl="1" marL="11685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re carried out efficiently and effectively)</a:t>
            </a:r>
            <a:endParaRPr b="0" lang="en-US" sz="2000" spc="-1" strike="noStrike">
              <a:solidFill>
                <a:srgbClr val="000000"/>
              </a:solidFill>
              <a:latin typeface="Tahoma"/>
            </a:endParaRPr>
          </a:p>
          <a:p>
            <a:pPr lvl="1" marL="11685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  Scheduling</a:t>
            </a:r>
            <a:endParaRPr b="0" lang="en-US" sz="2000" spc="-1" strike="noStrike">
              <a:solidFill>
                <a:srgbClr val="000000"/>
              </a:solidFill>
              <a:latin typeface="Tahoma"/>
            </a:endParaRPr>
          </a:p>
          <a:p>
            <a:pPr lvl="1" marL="11685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Establishing Procedures</a:t>
            </a:r>
            <a:endParaRPr b="0" lang="en-US" sz="2000" spc="-1" strike="noStrike">
              <a:solidFill>
                <a:srgbClr val="000000"/>
              </a:solidFill>
              <a:latin typeface="Tahoma"/>
            </a:endParaRPr>
          </a:p>
          <a:p>
            <a:pPr lvl="1" marL="11685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II.  EVALUATION AND FEEDBACK TO THE NEXT CYCLE</a:t>
            </a:r>
            <a:endParaRPr b="0" lang="en-US" sz="2000" spc="-1" strike="noStrike">
              <a:solidFill>
                <a:srgbClr val="000000"/>
              </a:solidFill>
              <a:latin typeface="Tahoma"/>
            </a:endParaRPr>
          </a:p>
          <a:p>
            <a:pPr lvl="1" marL="11685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1A1A1A7-603B-4A24-9652-91A6F0E9B7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lanning</a:t>
            </a:r>
            <a:endParaRPr b="0" lang="en-US" sz="32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f a manager’s most important jobs is </a:t>
            </a:r>
            <a:r>
              <a:rPr b="1" lang="en-US" sz="2000" spc="-1" strike="noStrike">
                <a:solidFill>
                  <a:srgbClr val="000000"/>
                </a:solidFill>
                <a:latin typeface="Verdana"/>
              </a:rPr>
              <a:t>planning</a:t>
            </a:r>
            <a:r>
              <a:rPr b="0" lang="en-US" sz="2000" spc="-1" strike="noStrike">
                <a:solidFill>
                  <a:srgbClr val="000000"/>
                </a:solidFill>
                <a:latin typeface="Verdana"/>
              </a:rPr>
              <a:t>.  There are many kinds of planning, and planning can be defined in a number of different ways.  The importance of planning involves choosing a destination, evaluating alternative routes, and deciding on the specific course to reach the chosen destination.  Planning is an extremely important element of the manager’s job.  The cost of not planning in thinking through the issues and designing alternatives to address the issues can be expensive to the business and the manage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three different perspectives of planning in management: strategic planning, long range, and operational planning.</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87F2603-7D66-4062-8434-91F693A02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lanning (cont’d.)</a:t>
            </a:r>
            <a:endParaRPr b="0" lang="en-US" sz="32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rategic Planning </a:t>
            </a:r>
            <a:r>
              <a:rPr b="0" lang="en-US" sz="2000" spc="-1" strike="noStrike">
                <a:solidFill>
                  <a:srgbClr val="000000"/>
                </a:solidFill>
                <a:latin typeface="Verdana"/>
              </a:rPr>
              <a:t>-  strategic planning takes place at the highest levels.  The major outcome of strategic planning, after gathering all necessary information, is the setting of goals for the organization.</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t>
            </a:r>
            <a:r>
              <a:rPr b="0" i="1" lang="en-US" sz="2000" spc="-1" strike="noStrike">
                <a:solidFill>
                  <a:srgbClr val="000000"/>
                </a:solidFill>
                <a:latin typeface="Verdana"/>
              </a:rPr>
              <a:t>goal</a:t>
            </a:r>
            <a:r>
              <a:rPr b="0" lang="en-US" sz="2000" spc="-1" strike="noStrike">
                <a:solidFill>
                  <a:srgbClr val="000000"/>
                </a:solidFill>
                <a:latin typeface="Verdana"/>
              </a:rPr>
              <a:t> is a long-range aim for a specific period.  Unlike an aspiration or a hope, a goal is always specific and realistic.  Long-range goals set through strategic planning are translated into activities that will ensure reaching the goal through operational plann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D2B599C-E6D4-4876-921E-1095E0146F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able of Contents</a:t>
            </a:r>
            <a:endParaRPr b="0" lang="en-US" sz="3200" spc="-1" strike="noStrike">
              <a:solidFill>
                <a:srgbClr val="333399"/>
              </a:solidFill>
              <a:latin typeface="Tahoma"/>
            </a:endParaRPr>
          </a:p>
        </p:txBody>
      </p:sp>
      <p:sp>
        <p:nvSpPr>
          <p:cNvPr id="103"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nagement Defined . . . . . . . . . . . . . . . . . . . . . . . . . . . . . . . . . . . . . . . . . . . . 2</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nagement . . . . . . . . . . . . . . . . . . . . . . . . . . . . . . . . . . . . . . . . . . . . . . . . . . 3</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yles of Management  . . . . . . . . . . . . . . . . . . . . . . . . . . . . . . . . . . . . . . . . . . . 6</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 Overview of the Functions of Management . . . . . . . . . . . . . . . . . . . . . . . . . . .14</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nning . . . . . . . . . . . . . . . . . . . . . . . . . . . . . . . . . . . . . . . . . . . . . . . . . . . . .17</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ing. . . . . . . . . . . . . . . . . . . . . . . . . . . . . . . . . . . . . . . . . . . . . . . . . . . .23</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nagement Control. . . . . . . . . . . . . . . . . . . . . . . . . . . . . . . . . . . . . . . . . . . . .24</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rational Control. . . . . . . . . . . . . . . . . . . . . . . . . . . . . . . . . . . . . . . . . . . . . 26</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aluation and Feedback. . . . . . . . . . . . . . . . . . . . . . . . . . . . . . . . . . . . . . . . .  27</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unctional Definition of Management . . . . . . . . . . . . . . . . . . . . . . . . . . . . . . . . .28</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nciples of Management. . . . . . . . . . . . . . . . . . . . . . . . . . . . . . . . . . . . . . . . .30</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unctions of the New Manager in the Workplace. . . . . . . . . . . . . . . . . . . . . . 37</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les . . . . . . . . . . . . . . . . . . . . . . . . . . . . . . . . . . . . . . . . . . . . . . . . . . . . . . .43</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ructuring Your Sales Proposals . . . . . . . . . . . . . . . . . . . . . . . . . . . . . . . . . . . 44</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er Information Categories . . . . . . . . . . . . . . . . . . . . . . . . . . . . . . . . . . . . . 47</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80/20 Rule for Sales Proposals. . . . . . . . . . . . . . . . . . . . . . . . . . . . . . . . . . 58</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sheets for Proposal Model &amp; Sample Application. . . . . . . . . . . . . . . . . . . . . .62</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7FC40BFE-A659-4E7C-8CB4-182068171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lanning</a:t>
            </a:r>
            <a:endParaRPr b="0" lang="en-US" sz="32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ng-Range Planning – </a:t>
            </a:r>
            <a:r>
              <a:rPr b="0" lang="en-US" sz="2000" spc="-1" strike="noStrike">
                <a:solidFill>
                  <a:srgbClr val="000000"/>
                </a:solidFill>
                <a:latin typeface="Verdana"/>
              </a:rPr>
              <a:t>Simply stating your mission is not going to help you achieve your goal.  Long-range planning looks at such variables as the market condition, financial objectives, and money available to accomplish the mission.  Long-range planning has a shorter time frame and is done within the framework of the strategic plan.  Choices have to be made about which alternatives are suitable to accomplish your goals.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0F1D8F8-C337-462C-AF5A-A11174471D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lanning (cont’d.)</a:t>
            </a:r>
            <a:endParaRPr b="0" lang="en-US" sz="32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onal Planning - </a:t>
            </a:r>
            <a:r>
              <a:rPr b="0" lang="en-US" sz="2000" spc="-1" strike="noStrike">
                <a:solidFill>
                  <a:srgbClr val="000000"/>
                </a:solidFill>
                <a:latin typeface="Verdana"/>
              </a:rPr>
              <a:t>The first step in operational planning is defining objectives.</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t>
            </a:r>
            <a:r>
              <a:rPr b="0" i="1" lang="en-US" sz="2000" spc="-1" strike="noStrike">
                <a:solidFill>
                  <a:srgbClr val="000000"/>
                </a:solidFill>
                <a:latin typeface="Verdana"/>
              </a:rPr>
              <a:t>objective </a:t>
            </a:r>
            <a:r>
              <a:rPr b="0" lang="en-US" sz="2000" spc="-1" strike="noStrike">
                <a:solidFill>
                  <a:srgbClr val="000000"/>
                </a:solidFill>
                <a:latin typeface="Verdana"/>
              </a:rPr>
              <a:t>is a result expected by the end of the budget (or other designated) cycle.</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strategic planning, the definition of objectives is the critical step in the management process.  It tells us where we are going, without knowing where we are going we cannot possible know how to get ther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2BD1D24-6116-4FF3-950E-74DA40AECE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lanning (cont’d.)</a:t>
            </a:r>
            <a:endParaRPr b="0" lang="en-US" sz="32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onal Planning (cont’d.)</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the objectives have been defined, the manager must design the organization in the best way to achieve the goals and objectives.</a:t>
            </a:r>
            <a:endParaRPr b="0" lang="en-US" sz="2000" spc="-1" strike="noStrike">
              <a:solidFill>
                <a:srgbClr val="000000"/>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ext step in operational planning is assigning responsibilities.  The manager breaks down the objective into pieces and hands out responsibility for those pieces to various units or individuals.  </a:t>
            </a:r>
            <a:endParaRPr b="0" lang="en-US" sz="2000" spc="-1" strike="noStrike">
              <a:solidFill>
                <a:srgbClr val="000000"/>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ly, the manager must be aware of problems that may occur along the way to prevent meeting the objectives.  Timetables, schedules, performanc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2CE6CC8-482E-46BF-8CB7-2CDB213E68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lanning (cont’d.)</a:t>
            </a:r>
            <a:endParaRPr b="0" lang="en-US" sz="32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onal Planning (cont’d.)</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s, and other techniques serve as major checkpoints to trigger action if necessary to keep things on course.  The manager thus sets up ways to check the progress of the unit as a whole toward its objectiv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6D214D7-1725-4977-9000-4053DA18E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Controlling</a:t>
            </a:r>
            <a:endParaRPr b="0" lang="en-US" sz="32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ce planning is complete, management concentrates on the business of controlling, making sure on a day-to-day basis that the objective will be met.  It is first necessary to ensure the efficient and effective use of the resources dedicated to achieve the objectives — the most critical resource being the human resource.  This is management contro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46E3C3A-F255-401F-A7C7-95B53B0FF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Management Control</a:t>
            </a:r>
            <a:endParaRPr b="0" lang="en-US" sz="32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task in management control is to develop individual </a:t>
            </a:r>
            <a:r>
              <a:rPr b="0" i="1" lang="en-US" sz="2000" spc="-1" strike="noStrike">
                <a:solidFill>
                  <a:srgbClr val="000000"/>
                </a:solidFill>
                <a:latin typeface="Verdana"/>
              </a:rPr>
              <a:t>standards of performance</a:t>
            </a:r>
            <a:r>
              <a:rPr b="0" lang="en-US" sz="2000" spc="-1" strike="noStrike">
                <a:solidFill>
                  <a:srgbClr val="000000"/>
                </a:solidFill>
                <a:latin typeface="Verdana"/>
              </a:rPr>
              <a:t>, statements of what will occur when a subordinate fulfills his or her responsibilities well.</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s of performance are developed for each responsibility assigned.  All achieved responsibilities added together will equal the accomplishment of all the objective.  This is an important relationship among objectives, responsibilities, and standards of performanc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6F07294-0A6E-41D5-8AFB-60945E601A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Management Control (cont’d.)</a:t>
            </a:r>
            <a:endParaRPr b="0" lang="en-US" sz="32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dividual standards are developed, specific project controls, such as work plans and milestone charts, should be designed.</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anager must motivate people to meet their standards, monitor and review their progress, problem solve, and coach and counsel when necessary, that is, steps 3-7 of the outline.</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the end of the cycle the manager must appraise individual performance in terms of the standards that were developed at the beginning of the cycl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5B15953-9181-4AF6-916D-4B1AE361E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Operational Control</a:t>
            </a:r>
            <a:endParaRPr b="0" lang="en-US" sz="32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other key component in the controlling activity is operational control.  This is ensuring that specific tasks are carried out efficiently and effectively.  It is the detailed scheduling and procedures that become routine activiti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0304EFD-62C5-4A9E-A8F6-3C61156ACE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Evaluation and Feedback</a:t>
            </a: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ast major activity in the management process is to evaluate how well the organization has done in achieving its objectives and prepare to begin the entire process all over again.   This is a continuous process for managing for results, motivating employees to fulfill their responsibilities, monitor and review progress, solve problems along the way and counsel employees when necessary.  Finally, appraising your employees performanc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7DDBCB3-C291-4C48-A3CA-1C093BCEDC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Functional Definition of Management</a:t>
            </a:r>
            <a:endParaRPr b="0" lang="en-US" sz="32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vity of management is characterized by five specific functions.  The managers work consists of performing managerial functions:</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t>
            </a:r>
            <a:r>
              <a:rPr b="0" i="1" lang="en-US" sz="2000" spc="-1" strike="noStrike">
                <a:solidFill>
                  <a:srgbClr val="000000"/>
                </a:solidFill>
                <a:latin typeface="Verdana"/>
              </a:rPr>
              <a:t>Planning.</a:t>
            </a:r>
            <a:r>
              <a:rPr b="0" lang="en-US" sz="2000" spc="-1" strike="noStrike">
                <a:solidFill>
                  <a:srgbClr val="000000"/>
                </a:solidFill>
                <a:latin typeface="Verdana"/>
              </a:rPr>
              <a:t>  This function consists of forecasting future events and determining the most effective future activities for the company.</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i="1" lang="en-US" sz="2000" spc="-1" strike="noStrike">
                <a:solidFill>
                  <a:srgbClr val="000000"/>
                </a:solidFill>
                <a:latin typeface="Verdana"/>
              </a:rPr>
              <a:t>Organizing.</a:t>
            </a:r>
            <a:r>
              <a:rPr b="0" lang="en-US" sz="2000" spc="-1" strike="noStrike">
                <a:solidFill>
                  <a:srgbClr val="000000"/>
                </a:solidFill>
                <a:latin typeface="Verdana"/>
              </a:rPr>
              <a:t>  This function consists of the ways in which the organizational structure is established and how authority and responsibility are given to managers, a task called </a:t>
            </a:r>
            <a:r>
              <a:rPr b="0" i="1" lang="en-US" sz="2000" spc="-1" strike="noStrike">
                <a:solidFill>
                  <a:srgbClr val="000000"/>
                </a:solidFill>
                <a:latin typeface="Verdana"/>
              </a:rPr>
              <a:t>deleg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92CC16F-51AF-4D5E-8B3C-86458316CD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Management Defined</a:t>
            </a:r>
            <a:endParaRPr b="0" lang="en-US" sz="3200" spc="-1" strike="noStrike">
              <a:solidFill>
                <a:srgbClr val="333399"/>
              </a:solidFill>
              <a:latin typeface="Tahoma"/>
            </a:endParaRPr>
          </a:p>
        </p:txBody>
      </p:sp>
      <p:sp>
        <p:nvSpPr>
          <p:cNvPr id="105" name="PlaceHolder 2"/>
          <p:cNvSpPr>
            <a:spLocks noGrp="1"/>
          </p:cNvSpPr>
          <p:nvPr>
            <p:ph/>
          </p:nvPr>
        </p:nvSpPr>
        <p:spPr>
          <a:xfrm>
            <a:off x="1182600" y="2361960"/>
            <a:ext cx="7772400" cy="3770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is working with and through other people to accomplish the objectives of both the business and its employees.</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is a challenge.  It requires people skills.  Managers promote to inspire employees to be their best and establishes a working environment that allows them to perform their best.  The best manager will obtain the resources and training needed for their employees to do their jobs effectivel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A692877-5F55-4057-B302-8C67FF942E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Functional Definition of Management (cont’d.)</a:t>
            </a:r>
            <a:endParaRPr b="0" lang="en-US" sz="32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3. Commanding.</a:t>
            </a:r>
            <a:r>
              <a:rPr b="0" lang="en-US" sz="2000" spc="-1" strike="noStrike">
                <a:solidFill>
                  <a:srgbClr val="000000"/>
                </a:solidFill>
                <a:latin typeface="Verdana"/>
              </a:rPr>
              <a:t>  This function concerns how managers direct employees.  Addressed are such activities as effective communications, managerial behaviors, and the use of rewards and punishments in discussing how a manager should command employees.</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4. Coordinating.  </a:t>
            </a:r>
            <a:r>
              <a:rPr b="0" lang="en-US" sz="2000" spc="-1" strike="noStrike">
                <a:solidFill>
                  <a:srgbClr val="000000"/>
                </a:solidFill>
                <a:latin typeface="Verdana"/>
              </a:rPr>
              <a:t>This function concerns activities designed to create a relationship among all the organization’s efforts (individual tasks) to accomplish a common goal.</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t>
            </a:r>
            <a:r>
              <a:rPr b="0" i="1" lang="en-US" sz="2000" spc="-1" strike="noStrike">
                <a:solidFill>
                  <a:srgbClr val="000000"/>
                </a:solidFill>
                <a:latin typeface="Verdana"/>
              </a:rPr>
              <a:t>Controlling.</a:t>
            </a:r>
            <a:r>
              <a:rPr b="0" lang="en-US" sz="2000" spc="-1" strike="noStrike">
                <a:solidFill>
                  <a:srgbClr val="000000"/>
                </a:solidFill>
                <a:latin typeface="Verdana"/>
              </a:rPr>
              <a:t>  This function concerns how managers evaluate performance within the organization in relationship to the plans and goals of that organiz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7848CA1-0892-4B9B-9AD6-C8067A49F5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rinciples of Management</a:t>
            </a:r>
            <a:endParaRPr b="0" lang="en-US" sz="32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ourteen principles of management  to guide the manager in resolving contemporary work problems are:</a:t>
            </a:r>
            <a:endParaRPr b="0" lang="en-US" sz="1800" spc="-1" strike="noStrike">
              <a:solidFill>
                <a:srgbClr val="000000"/>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a:t>
            </a:r>
            <a:r>
              <a:rPr b="0" i="1" lang="en-US" sz="1800" spc="-1" strike="noStrike">
                <a:solidFill>
                  <a:srgbClr val="000000"/>
                </a:solidFill>
                <a:latin typeface="Verdana"/>
              </a:rPr>
              <a:t>Division of labor.</a:t>
            </a:r>
            <a:r>
              <a:rPr b="0" lang="en-US" sz="1800" spc="-1" strike="noStrike">
                <a:solidFill>
                  <a:srgbClr val="000000"/>
                </a:solidFill>
                <a:latin typeface="Verdana"/>
              </a:rPr>
              <a:t>  Work is separated into its basic tasks and divided between individual workers or work groups that can specialize in the specific task, leading to </a:t>
            </a:r>
            <a:r>
              <a:rPr b="0" i="1" lang="en-US" sz="1800" spc="-1" strike="noStrike">
                <a:solidFill>
                  <a:srgbClr val="000000"/>
                </a:solidFill>
                <a:latin typeface="Verdana"/>
              </a:rPr>
              <a:t>work specialization.</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a:t>
            </a:r>
            <a:r>
              <a:rPr b="0" i="1" lang="en-US" sz="1800" spc="-1" strike="noStrike">
                <a:solidFill>
                  <a:srgbClr val="000000"/>
                </a:solidFill>
                <a:latin typeface="Verdana"/>
              </a:rPr>
              <a:t>Authority.</a:t>
            </a:r>
            <a:r>
              <a:rPr b="0" lang="en-US" sz="1800" spc="-1" strike="noStrike">
                <a:solidFill>
                  <a:srgbClr val="000000"/>
                </a:solidFill>
                <a:latin typeface="Verdana"/>
              </a:rPr>
              <a:t> Authority is the legitimate right to exercise power within the organization to obtain worker obedience.  It is closely related to responsibility, which is the accountability for using authority.  Authority and responsibility go together, and one without the other leads to managerial failur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8C1F181-7088-42EE-A50B-8D76833881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rinciples of Management (cont’d.)</a:t>
            </a:r>
            <a:endParaRPr b="0" lang="en-US" sz="32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i="1" lang="en-US" sz="2000" spc="-1" strike="noStrike">
                <a:solidFill>
                  <a:srgbClr val="000000"/>
                </a:solidFill>
                <a:latin typeface="Verdana"/>
              </a:rPr>
              <a:t>Discipline.</a:t>
            </a:r>
            <a:r>
              <a:rPr b="0" lang="en-US" sz="2000" spc="-1" strike="noStrike">
                <a:solidFill>
                  <a:srgbClr val="000000"/>
                </a:solidFill>
                <a:latin typeface="Verdana"/>
              </a:rPr>
              <a:t>  Discipline is the application of punishment for failure to act in accord with the desires of those who posses legitimate authority in the organization.</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i="1" lang="en-US" sz="2000" spc="-1" strike="noStrike">
                <a:solidFill>
                  <a:srgbClr val="000000"/>
                </a:solidFill>
                <a:latin typeface="Verdana"/>
              </a:rPr>
              <a:t>Unity of command.</a:t>
            </a:r>
            <a:r>
              <a:rPr b="0" lang="en-US" sz="2000" spc="-1" strike="noStrike">
                <a:solidFill>
                  <a:srgbClr val="000000"/>
                </a:solidFill>
                <a:latin typeface="Verdana"/>
              </a:rPr>
              <a:t>  Each worker should receive orders from only one manager, a simplified view of an organization that assures a minimum of conflict and promotes clarity of communication.</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t>
            </a:r>
            <a:r>
              <a:rPr b="0" i="1" lang="en-US" sz="2000" spc="-1" strike="noStrike">
                <a:solidFill>
                  <a:srgbClr val="000000"/>
                </a:solidFill>
                <a:latin typeface="Verdana"/>
              </a:rPr>
              <a:t>Unity of direction.</a:t>
            </a:r>
            <a:r>
              <a:rPr b="0" lang="en-US" sz="2000" spc="-1" strike="noStrike">
                <a:solidFill>
                  <a:srgbClr val="000000"/>
                </a:solidFill>
                <a:latin typeface="Verdana"/>
              </a:rPr>
              <a:t>  The whole organization should have one common goal and seek to accomplish that goal in all its activiti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FD4D782-F5D3-4975-8C91-EB21025599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rinciples of Management (cont’d.)</a:t>
            </a:r>
            <a:endParaRPr b="0" lang="en-US" sz="32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i="1" lang="en-US" sz="2000" spc="-1" strike="noStrike">
                <a:solidFill>
                  <a:srgbClr val="000000"/>
                </a:solidFill>
                <a:latin typeface="Verdana"/>
              </a:rPr>
              <a:t>Subordination of the individual.</a:t>
            </a:r>
            <a:r>
              <a:rPr b="0" lang="en-US" sz="2000" spc="-1" strike="noStrike">
                <a:solidFill>
                  <a:srgbClr val="000000"/>
                </a:solidFill>
                <a:latin typeface="Verdana"/>
              </a:rPr>
              <a:t>  The goal and interest                   of the organization are more important than and therefore take precedence over the personal goals and interests of the individual.</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t>
            </a:r>
            <a:r>
              <a:rPr b="0" i="1" lang="en-US" sz="2000" spc="-1" strike="noStrike">
                <a:solidFill>
                  <a:srgbClr val="000000"/>
                </a:solidFill>
                <a:latin typeface="Verdana"/>
              </a:rPr>
              <a:t>Remuneration.</a:t>
            </a:r>
            <a:r>
              <a:rPr b="0" lang="en-US" sz="2000" spc="-1" strike="noStrike">
                <a:solidFill>
                  <a:srgbClr val="000000"/>
                </a:solidFill>
                <a:latin typeface="Verdana"/>
              </a:rPr>
              <a:t>  Each employee should receive compensation in accord with a general formula.  The computation of amounts and forms of compensation should consider the following variables:  cost-of-living, the general economic climate and specific business conditions, qualifications of the worker and the supply and demand for such workers, and the levels of productivity achiev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75D670C-C192-417E-BB04-E1FA11ACB0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rinciples of Management (cont’d.)</a:t>
            </a:r>
            <a:endParaRPr b="0" lang="en-US" sz="32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a:t>
            </a:r>
            <a:r>
              <a:rPr b="0" i="1" lang="en-US" sz="2000" spc="-1" strike="noStrike">
                <a:solidFill>
                  <a:srgbClr val="000000"/>
                </a:solidFill>
                <a:latin typeface="Verdana"/>
              </a:rPr>
              <a:t>Centralization.</a:t>
            </a:r>
            <a:r>
              <a:rPr b="0" lang="en-US" sz="2000" spc="-1" strike="noStrike">
                <a:solidFill>
                  <a:srgbClr val="000000"/>
                </a:solidFill>
                <a:latin typeface="Verdana"/>
              </a:rPr>
              <a:t>  The importance of subordinates is reduced as organizational power and the responsibility for decision-making is concentrated in managers.  Managers are responsible for decision-making and are accountable for those decisions.  Subordinates should be delegated responsibility with just enough authority to accomplish the assigned task.  The opposite of centralization is decentralization.</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a:t>
            </a:r>
            <a:r>
              <a:rPr b="0" i="1" lang="en-US" sz="2000" spc="-1" strike="noStrike">
                <a:solidFill>
                  <a:srgbClr val="000000"/>
                </a:solidFill>
                <a:latin typeface="Verdana"/>
              </a:rPr>
              <a:t>Scalar chain.</a:t>
            </a:r>
            <a:r>
              <a:rPr b="0" lang="en-US" sz="2000" spc="-1" strike="noStrike">
                <a:solidFill>
                  <a:srgbClr val="000000"/>
                </a:solidFill>
                <a:latin typeface="Verdana"/>
              </a:rPr>
              <a:t>  Managers in a company exist in a chain of command that is scalar, or hierarchical.  Authority and responsibility are delegated down the chain of command and become less the lower one goes in the chain of command.  Lower level managers have responsibility fo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7B6188B-5E22-4110-A265-4AA46348D8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rinciples of Management (cont’d.)</a:t>
            </a:r>
            <a:endParaRPr b="0" lang="en-US" sz="32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a:t>
            </a:r>
            <a:r>
              <a:rPr b="0" i="1" lang="en-US" sz="2000" spc="-1" strike="noStrike">
                <a:solidFill>
                  <a:srgbClr val="000000"/>
                </a:solidFill>
                <a:latin typeface="Verdana"/>
              </a:rPr>
              <a:t>Scalar chain. (cont’d.)</a:t>
            </a: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lang="en-US" sz="2000" spc="-1" strike="noStrike">
                <a:solidFill>
                  <a:srgbClr val="000000"/>
                </a:solidFill>
                <a:latin typeface="Verdana"/>
              </a:rPr>
              <a:t>informing those senior in the chain of command of current information regarding task accomplishment.  This results in an organization that is “hierarchical.”</a:t>
            </a: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a:t>
            </a:r>
            <a:r>
              <a:rPr b="0" i="1" lang="en-US" sz="2000" spc="-1" strike="noStrike">
                <a:solidFill>
                  <a:srgbClr val="000000"/>
                </a:solidFill>
                <a:latin typeface="Verdana"/>
              </a:rPr>
              <a:t>Order.</a:t>
            </a:r>
            <a:r>
              <a:rPr b="0" lang="en-US" sz="2000" spc="-1" strike="noStrike">
                <a:solidFill>
                  <a:srgbClr val="000000"/>
                </a:solidFill>
                <a:latin typeface="Verdana"/>
              </a:rPr>
              <a:t>  The resources of a company — its raw materials and workers — must be in the right place at the right time.  This ordering of organizational resources ensures maximal efficiency.</a:t>
            </a: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 </a:t>
            </a:r>
            <a:r>
              <a:rPr b="0" i="1" lang="en-US" sz="2000" spc="-1" strike="noStrike">
                <a:solidFill>
                  <a:srgbClr val="000000"/>
                </a:solidFill>
                <a:latin typeface="Verdana"/>
              </a:rPr>
              <a:t>Equity.</a:t>
            </a:r>
            <a:r>
              <a:rPr b="0" lang="en-US" sz="2000" spc="-1" strike="noStrike">
                <a:solidFill>
                  <a:srgbClr val="000000"/>
                </a:solidFill>
                <a:latin typeface="Verdana"/>
              </a:rPr>
              <a:t>  Employees should feel they are being treated equally and fairly.  The perception of equity will be accomplished by organizational rules that are reasonable and consistently applied to all worker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DB09C3E-77F1-4025-B0AF-AD984E48BC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rinciples of Management (cont’d.)</a:t>
            </a:r>
            <a:endParaRPr b="0" lang="en-US" sz="32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 </a:t>
            </a:r>
            <a:r>
              <a:rPr b="0" i="1" lang="en-US" sz="2000" spc="-1" strike="noStrike">
                <a:solidFill>
                  <a:srgbClr val="000000"/>
                </a:solidFill>
                <a:latin typeface="Verdana"/>
              </a:rPr>
              <a:t>Stability of personnel.</a:t>
            </a:r>
            <a:r>
              <a:rPr b="0" lang="en-US" sz="2000" spc="-1" strike="noStrike">
                <a:solidFill>
                  <a:srgbClr val="000000"/>
                </a:solidFill>
                <a:latin typeface="Verdana"/>
              </a:rPr>
              <a:t>  Successful firms retain good managers, and this should be a goal of the organization.  Skilled and successful personnel are a viable organization resource, and organizational practices should encourage long-term commitment to the organization.</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 </a:t>
            </a:r>
            <a:r>
              <a:rPr b="0" i="1" lang="en-US" sz="2000" spc="-1" strike="noStrike">
                <a:solidFill>
                  <a:srgbClr val="000000"/>
                </a:solidFill>
                <a:latin typeface="Verdana"/>
              </a:rPr>
              <a:t>Initiative.</a:t>
            </a:r>
            <a:r>
              <a:rPr b="0" lang="en-US" sz="2000" spc="-1" strike="noStrike">
                <a:solidFill>
                  <a:srgbClr val="000000"/>
                </a:solidFill>
                <a:latin typeface="Verdana"/>
              </a:rPr>
              <a:t>  Management should encourage individual employee initiative, which is defined as additional self-motivated work effort undertaken for the good of the organiz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706B942-EC65-4566-B5B1-4732641B0C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Principles of Management (cont’d.)</a:t>
            </a:r>
            <a:endParaRPr b="0" lang="en-US" sz="32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a:t>
            </a:r>
            <a:r>
              <a:rPr b="0" i="1" lang="en-US" sz="2000" spc="-1" strike="noStrike">
                <a:solidFill>
                  <a:srgbClr val="000000"/>
                </a:solidFill>
                <a:latin typeface="Verdana"/>
              </a:rPr>
              <a:t>Esprit de corps.</a:t>
            </a:r>
            <a:r>
              <a:rPr b="0" lang="en-US" sz="2000" spc="-1" strike="noStrike">
                <a:solidFill>
                  <a:srgbClr val="000000"/>
                </a:solidFill>
                <a:latin typeface="Verdana"/>
              </a:rPr>
              <a:t> Management should try to encourage harmony and common interests, resulting in good relations among employe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9E4452F-83F3-452B-BFBB-D7B63A7A02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Functions of the New Manager in the Workplace of the 21</a:t>
            </a:r>
            <a:r>
              <a:rPr b="0" lang="en-US" sz="3200" spc="-1" strike="noStrike" baseline="30000">
                <a:solidFill>
                  <a:srgbClr val="333399"/>
                </a:solidFill>
                <a:latin typeface="Verdana"/>
              </a:rPr>
              <a:t>st</a:t>
            </a:r>
            <a:r>
              <a:rPr b="0" lang="en-US" sz="3200" spc="-1" strike="noStrike">
                <a:solidFill>
                  <a:srgbClr val="333399"/>
                </a:solidFill>
                <a:latin typeface="Verdana"/>
              </a:rPr>
              <a:t> Century</a:t>
            </a:r>
            <a:endParaRPr b="0" lang="en-US" sz="32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ergize</a:t>
            </a:r>
            <a:r>
              <a:rPr b="0" lang="en-US" sz="2000" spc="-1" strike="noStrike">
                <a:solidFill>
                  <a:srgbClr val="000000"/>
                </a:solidFill>
                <a:latin typeface="Verdana"/>
              </a:rPr>
              <a:t>.  Great managers create far more energy than they consume.  The best managers are organizational catalysts.  Instead of taking energy </a:t>
            </a:r>
            <a:r>
              <a:rPr b="0" i="1" lang="en-US" sz="2000" spc="-1" strike="noStrike">
                <a:solidFill>
                  <a:srgbClr val="000000"/>
                </a:solidFill>
                <a:latin typeface="Verdana"/>
              </a:rPr>
              <a:t>from</a:t>
            </a:r>
            <a:r>
              <a:rPr b="0" lang="en-US" sz="2000" spc="-1" strike="noStrike">
                <a:solidFill>
                  <a:srgbClr val="000000"/>
                </a:solidFill>
                <a:latin typeface="Verdana"/>
              </a:rPr>
              <a:t> an organization, they channel and amplify it </a:t>
            </a:r>
            <a:r>
              <a:rPr b="0" i="1" lang="en-US" sz="2000" spc="-1" strike="noStrike">
                <a:solidFill>
                  <a:srgbClr val="000000"/>
                </a:solidFill>
                <a:latin typeface="Verdana"/>
              </a:rPr>
              <a:t>to </a:t>
            </a:r>
            <a:r>
              <a:rPr b="0" lang="en-US" sz="2000" spc="-1" strike="noStrike">
                <a:solidFill>
                  <a:srgbClr val="000000"/>
                </a:solidFill>
                <a:latin typeface="Verdana"/>
              </a:rPr>
              <a:t>the organization.  In every interaction, effective managers take the natural energy of their employees, add to it, and leave the employees in a higher energy state than when they started the interactio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becomes a process of transmitting the excitement that you feel about your organization and its goals to your employees in terms that they can understand and appreciat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1986223-381F-41CB-991A-7896360B9A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Functions of the New Manager in the Workplace of the 21</a:t>
            </a:r>
            <a:r>
              <a:rPr b="0" lang="en-US" sz="3200" spc="-1" strike="noStrike" baseline="30000">
                <a:solidFill>
                  <a:srgbClr val="333399"/>
                </a:solidFill>
                <a:latin typeface="Verdana"/>
              </a:rPr>
              <a:t>st</a:t>
            </a:r>
            <a:r>
              <a:rPr b="0" lang="en-US" sz="3200" spc="-1" strike="noStrike">
                <a:solidFill>
                  <a:srgbClr val="333399"/>
                </a:solidFill>
                <a:latin typeface="Verdana"/>
              </a:rPr>
              <a:t> Century</a:t>
            </a:r>
            <a:br>
              <a:rPr sz="3200"/>
            </a:br>
            <a:r>
              <a:rPr b="0" lang="en-US" sz="3200" spc="-1" strike="noStrike">
                <a:solidFill>
                  <a:srgbClr val="333399"/>
                </a:solidFill>
                <a:latin typeface="Verdana"/>
              </a:rPr>
              <a:t>(cont’d.)</a:t>
            </a:r>
            <a:endParaRPr b="0" lang="en-US" sz="32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p:</a:t>
            </a:r>
            <a:r>
              <a:rPr b="0" lang="en-US" sz="2000" spc="-1" strike="noStrike">
                <a:solidFill>
                  <a:srgbClr val="000000"/>
                </a:solidFill>
                <a:latin typeface="Verdana"/>
              </a:rPr>
              <a:t>  Successful managers create compelling visions — pictures of a future organization that inspire and compel employees to bring out their very best performance.</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power.</a:t>
            </a:r>
            <a:r>
              <a:rPr b="0" lang="en-US" sz="2000" spc="-1" strike="noStrike">
                <a:solidFill>
                  <a:srgbClr val="000000"/>
                </a:solidFill>
                <a:latin typeface="Verdana"/>
              </a:rPr>
              <a:t>   Despite rumors to the contrary, when you empower your employees, you do not stop managing.  What changes is the </a:t>
            </a:r>
            <a:r>
              <a:rPr b="0" i="1" lang="en-US" sz="2000" spc="-1" strike="noStrike">
                <a:solidFill>
                  <a:srgbClr val="000000"/>
                </a:solidFill>
                <a:latin typeface="Verdana"/>
              </a:rPr>
              <a:t>way</a:t>
            </a:r>
            <a:r>
              <a:rPr b="0" lang="en-US" sz="2000" spc="-1" strike="noStrike">
                <a:solidFill>
                  <a:srgbClr val="000000"/>
                </a:solidFill>
                <a:latin typeface="Verdana"/>
              </a:rPr>
              <a:t> you manage.  Managers still provide vision, establish organizational goals, and determine shared values.  However, managers must establish a company infrastructure — skills training, teams, and so forth — that supports empowerme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D702A61-233D-4F5A-9D1B-DAB22D581D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Management </a:t>
            </a:r>
            <a:endParaRPr b="0" lang="en-US" sz="32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anagement section is the most important of all business plan categories in those cases where you intend to use the business plan as a vehicle to raise money.</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in the management section with biographies of the principal members of your business: the president, vice president, sales and marketing managers, board members, and so on.  Be accurate in outlining their backgrounds in three or four paragraphs, and remember the prudent investor checks referenc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1621FCA-5A50-44CA-8140-105B18AA2D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Functions of the New Manager in the Workplace of the 21</a:t>
            </a:r>
            <a:r>
              <a:rPr b="0" lang="en-US" sz="3200" spc="-1" strike="noStrike" baseline="30000">
                <a:solidFill>
                  <a:srgbClr val="333399"/>
                </a:solidFill>
                <a:latin typeface="Verdana"/>
              </a:rPr>
              <a:t>st</a:t>
            </a:r>
            <a:r>
              <a:rPr b="0" lang="en-US" sz="3200" spc="-1" strike="noStrike">
                <a:solidFill>
                  <a:srgbClr val="333399"/>
                </a:solidFill>
                <a:latin typeface="Verdana"/>
              </a:rPr>
              <a:t> Century (cont’d.)</a:t>
            </a:r>
            <a:endParaRPr b="0" lang="en-US" sz="32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p: </a:t>
            </a:r>
            <a:r>
              <a:rPr b="0" lang="en-US" sz="2000" spc="-1" strike="noStrike">
                <a:solidFill>
                  <a:srgbClr val="000000"/>
                </a:solidFill>
                <a:latin typeface="Verdana"/>
              </a:rPr>
              <a:t>Great managers </a:t>
            </a:r>
            <a:r>
              <a:rPr b="0" i="1" lang="en-US" sz="2000" spc="-1" strike="noStrike">
                <a:solidFill>
                  <a:srgbClr val="000000"/>
                </a:solidFill>
                <a:latin typeface="Verdana"/>
              </a:rPr>
              <a:t>allow </a:t>
            </a:r>
            <a:r>
              <a:rPr b="0" lang="en-US" sz="2000" spc="-1" strike="noStrike">
                <a:solidFill>
                  <a:srgbClr val="000000"/>
                </a:solidFill>
                <a:latin typeface="Verdana"/>
              </a:rPr>
              <a:t>their employees to do great work.  This is a vital function of management, for even the greatest managers in the world can’t succeed all by themselves.  To achieve the goals of the company, managers depend on the skills that their employees offer.  Effective management is the leveraging of the efforts of every member of a work unit towards a common purpose.</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pport.</a:t>
            </a:r>
            <a:r>
              <a:rPr b="0" lang="en-US" sz="2000" spc="-1" strike="noStrike">
                <a:solidFill>
                  <a:srgbClr val="000000"/>
                </a:solidFill>
                <a:latin typeface="Verdana"/>
              </a:rPr>
              <a:t>  Increasingly, managers must be coaches, colleagues, and cheerleaders for the employees the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0840D95-1286-4A9B-A36E-ED764DE8EA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Functions of the New Manager in the Workplace of the 21</a:t>
            </a:r>
            <a:r>
              <a:rPr b="0" lang="en-US" sz="3200" spc="-1" strike="noStrike" baseline="30000">
                <a:solidFill>
                  <a:srgbClr val="333399"/>
                </a:solidFill>
                <a:latin typeface="Verdana"/>
              </a:rPr>
              <a:t>st</a:t>
            </a:r>
            <a:r>
              <a:rPr b="0" lang="en-US" sz="3200" spc="-1" strike="noStrike">
                <a:solidFill>
                  <a:srgbClr val="333399"/>
                </a:solidFill>
                <a:latin typeface="Verdana"/>
              </a:rPr>
              <a:t> Century (cont’d.)</a:t>
            </a:r>
            <a:endParaRPr b="0" lang="en-US" sz="32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pport (cont’d.)</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support.  The main concern of today’s managers needs to be shaping a more supportive work environment that enables each employee to feel valued and be more productive.</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p:</a:t>
            </a:r>
            <a:r>
              <a:rPr b="0" lang="en-US" sz="2000" spc="-1" strike="noStrike">
                <a:solidFill>
                  <a:srgbClr val="000000"/>
                </a:solidFill>
                <a:latin typeface="Verdana"/>
              </a:rPr>
              <a:t>  The key to creating a supportive environment is establishing </a:t>
            </a:r>
            <a:r>
              <a:rPr b="0" i="1" lang="en-US" sz="2000" spc="-1" strike="noStrike">
                <a:solidFill>
                  <a:srgbClr val="000000"/>
                </a:solidFill>
                <a:latin typeface="Verdana"/>
              </a:rPr>
              <a:t>openness</a:t>
            </a:r>
            <a:r>
              <a:rPr b="0" lang="en-US" sz="2000" spc="-1" strike="noStrike">
                <a:solidFill>
                  <a:srgbClr val="000000"/>
                </a:solidFill>
                <a:latin typeface="Verdana"/>
              </a:rPr>
              <a:t> throughout your company.  In an open environment, employees can bring up questions and concerns — in fact, they are encouraged to do so.</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3AB8E20-6D24-4166-96F9-051EB49BA2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Functions of the New Manager in the Workplace of the 21</a:t>
            </a:r>
            <a:r>
              <a:rPr b="0" lang="en-US" sz="3200" spc="-1" strike="noStrike" baseline="30000">
                <a:solidFill>
                  <a:srgbClr val="333399"/>
                </a:solidFill>
                <a:latin typeface="Verdana"/>
              </a:rPr>
              <a:t>st</a:t>
            </a:r>
            <a:r>
              <a:rPr b="0" lang="en-US" sz="3200" spc="-1" strike="noStrike">
                <a:solidFill>
                  <a:srgbClr val="333399"/>
                </a:solidFill>
                <a:latin typeface="Verdana"/>
              </a:rPr>
              <a:t> Century (cont’d.)</a:t>
            </a:r>
            <a:endParaRPr b="0" lang="en-US" sz="32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p: (cont’d.)</a:t>
            </a:r>
            <a:r>
              <a:rPr b="0" lang="en-US" sz="2000" spc="-1" strike="noStrike">
                <a:solidFill>
                  <a:srgbClr val="000000"/>
                </a:solidFill>
                <a:latin typeface="Verdana"/>
              </a:rPr>
              <a:t>  When the environment is truly open, an individual can express concerns without fear of retribution.  When employees see that their managers are receptive to new ideas, they are more likely to think of more and better ways to improve systems, solve problems, save money, and so forth.</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municate.</a:t>
            </a:r>
            <a:r>
              <a:rPr b="0" lang="en-US" sz="2000" spc="-1" strike="noStrike">
                <a:solidFill>
                  <a:srgbClr val="000000"/>
                </a:solidFill>
                <a:latin typeface="Verdana"/>
              </a:rPr>
              <a:t>  Without a doubt, communication is the lifeblood of any company, and managers are the element that connects different level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C71BF97-9FC6-44EC-9AB7-3AB0215EE8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Functions of the New Manager in the Workplace of the 21</a:t>
            </a:r>
            <a:r>
              <a:rPr b="0" lang="en-US" sz="3200" spc="-1" strike="noStrike" baseline="30000">
                <a:solidFill>
                  <a:srgbClr val="333399"/>
                </a:solidFill>
                <a:latin typeface="Verdana"/>
              </a:rPr>
              <a:t>st</a:t>
            </a:r>
            <a:r>
              <a:rPr b="0" lang="en-US" sz="3200" spc="-1" strike="noStrike">
                <a:solidFill>
                  <a:srgbClr val="333399"/>
                </a:solidFill>
                <a:latin typeface="Verdana"/>
              </a:rPr>
              <a:t> Century (cont’d.)</a:t>
            </a:r>
            <a:endParaRPr b="0" lang="en-US" sz="32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munication (cont’d.)</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1" lang="en-US" sz="2000" spc="-1" strike="noStrike">
                <a:solidFill>
                  <a:srgbClr val="000000"/>
                </a:solidFill>
                <a:latin typeface="Verdana"/>
              </a:rPr>
              <a:t>Remember:</a:t>
            </a:r>
            <a:r>
              <a:rPr b="0" lang="en-US" sz="2000" spc="-1" strike="noStrike">
                <a:solidFill>
                  <a:srgbClr val="000000"/>
                </a:solidFill>
                <a:latin typeface="Verdana"/>
              </a:rPr>
              <a:t> Managers who don’t communicate effectively are missing out on a vital role of management.</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meet the expectations that you set for them, your employees have to be </a:t>
            </a:r>
            <a:r>
              <a:rPr b="0" i="1" lang="en-US" sz="2000" spc="-1" strike="noStrike">
                <a:solidFill>
                  <a:srgbClr val="000000"/>
                </a:solidFill>
                <a:latin typeface="Verdana"/>
              </a:rPr>
              <a:t>aware</a:t>
            </a:r>
            <a:r>
              <a:rPr b="0" lang="en-US" sz="2000" spc="-1" strike="noStrike">
                <a:solidFill>
                  <a:srgbClr val="000000"/>
                </a:solidFill>
                <a:latin typeface="Verdana"/>
              </a:rPr>
              <a:t> of your expectations.  A goal is great on paper, but if you don’t communicate it to employees and don’t keep them up to date on their progress toward achieving that goal, how can you expect them to reach it?</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9DFBDCE-8DC9-4342-A682-0433414ECF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ales</a:t>
            </a:r>
            <a:endParaRPr b="0" lang="en-US" sz="32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es Proposals Defined:  </a:t>
            </a:r>
            <a:r>
              <a:rPr b="0" lang="en-US" sz="2000" spc="-1" strike="noStrike">
                <a:solidFill>
                  <a:srgbClr val="000000"/>
                </a:solidFill>
                <a:latin typeface="Verdana"/>
              </a:rPr>
              <a:t>A </a:t>
            </a:r>
            <a:r>
              <a:rPr b="0" i="1" lang="en-US" sz="2000" spc="-1" strike="noStrike">
                <a:solidFill>
                  <a:srgbClr val="000000"/>
                </a:solidFill>
                <a:latin typeface="Verdana"/>
              </a:rPr>
              <a:t>sales proposal</a:t>
            </a:r>
            <a:r>
              <a:rPr b="0" lang="en-US" sz="2000" spc="-1" strike="noStrike">
                <a:solidFill>
                  <a:srgbClr val="000000"/>
                </a:solidFill>
                <a:latin typeface="Verdana"/>
              </a:rPr>
              <a:t> is the seller’s written plan or offer presented to a buyer to exchange property, goods, or services for money.  A sales proposal can be a simple price quote on a product to a written proposal to sell very costly and complex products or services.  The buyer either accepts or rejects your proposal.  Naturally, you hope the buyer accepts!</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43375B5-722A-4286-871C-E57EDCCCB2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ructuring Your Sales Proposals</a:t>
            </a:r>
            <a:endParaRPr b="0" lang="en-US" sz="32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ve-Section Proposal Structure</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ecutive Summary</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One:  Background Information</a:t>
            </a:r>
            <a:r>
              <a:rPr b="0" lang="en-US" sz="2000" spc="-1" strike="noStrike">
                <a:solidFill>
                  <a:srgbClr val="000000"/>
                </a:solidFill>
                <a:latin typeface="Verdana"/>
              </a:rPr>
              <a:t>:  Everything you learned about your customer during your sales process.  This section sets the stage for your proposed product.</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Two:  Proposed Solution</a:t>
            </a:r>
            <a:r>
              <a:rPr b="0" lang="en-US" sz="2000" spc="-1" strike="noStrike">
                <a:solidFill>
                  <a:srgbClr val="000000"/>
                </a:solidFill>
                <a:latin typeface="Verdana"/>
              </a:rPr>
              <a:t>:  Everything your customer needs to know about your proposed product: description, application, features, and benefi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Three:  Implementation</a:t>
            </a:r>
            <a:r>
              <a:rPr b="0" lang="en-US" sz="2000" spc="-1" strike="noStrike">
                <a:solidFill>
                  <a:srgbClr val="000000"/>
                </a:solidFill>
                <a:latin typeface="Verdana"/>
              </a:rPr>
              <a:t>:  The who, how, and when about implementing your produc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BB3F463-1901-42D7-97FE-350C854348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ructuring Your Sales Proposals (cont’d.)</a:t>
            </a:r>
            <a:endParaRPr b="0" lang="en-US" sz="32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Four:  Seller Profile</a:t>
            </a:r>
            <a:r>
              <a:rPr b="0" lang="en-US" sz="2000" spc="-1" strike="noStrike">
                <a:solidFill>
                  <a:srgbClr val="000000"/>
                </a:solidFill>
                <a:latin typeface="Verdana"/>
              </a:rPr>
              <a:t>:  Things your customer wants to know about your company</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Five:  Business Issues</a:t>
            </a:r>
            <a:r>
              <a:rPr b="0" lang="en-US" sz="2000" spc="-1" strike="noStrike">
                <a:solidFill>
                  <a:srgbClr val="000000"/>
                </a:solidFill>
                <a:latin typeface="Verdana"/>
              </a:rPr>
              <a:t>:  All the boring but necessary business stuff.</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ther Important Proposal Elemen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tle Page</a:t>
            </a:r>
            <a:r>
              <a:rPr b="0" lang="en-US" sz="2000" spc="-1" strike="noStrike">
                <a:solidFill>
                  <a:srgbClr val="000000"/>
                </a:solidFill>
                <a:latin typeface="Verdana"/>
              </a:rPr>
              <a:t>:  The cover page to your proposal that, if titled correctly, can help focus the reader’s attention.</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ecutive Summary</a:t>
            </a:r>
            <a:r>
              <a:rPr b="0" lang="en-US" sz="2000" spc="-1" strike="noStrike">
                <a:solidFill>
                  <a:srgbClr val="000000"/>
                </a:solidFill>
                <a:latin typeface="Verdana"/>
              </a:rPr>
              <a:t>:  A concise synopsis of the entire proposal; a proposal in miniatur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E110D7B-3162-43F2-8960-E0E7E33723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ructuring Your Sales Proposals (cont’d.)</a:t>
            </a:r>
            <a:endParaRPr b="0" lang="en-US" sz="32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of Contents</a:t>
            </a:r>
            <a:r>
              <a:rPr b="0" lang="en-US" sz="2000" spc="-1" strike="noStrike">
                <a:solidFill>
                  <a:srgbClr val="000000"/>
                </a:solidFill>
                <a:latin typeface="Verdana"/>
              </a:rPr>
              <a:t>:  A listing of the proposal’s main sections and subsections with page number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ppendices</a:t>
            </a:r>
            <a:r>
              <a:rPr b="0" lang="en-US" sz="2000" spc="-1" strike="noStrike">
                <a:solidFill>
                  <a:srgbClr val="000000"/>
                </a:solidFill>
                <a:latin typeface="Verdana"/>
              </a:rPr>
              <a:t>:  Brochures, detailed schedules, preprinted materials, and so on that are used to support information summarized or referenced in the main proposal sections.</a:t>
            </a:r>
            <a:r>
              <a:rPr b="0" lang="en-US" sz="2000" spc="-1" strike="noStrike">
                <a:solidFill>
                  <a:srgbClr val="000000"/>
                </a:solidFill>
                <a:latin typeface="Verdan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8C0667D-601C-4D36-8F66-0FE81909FA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a:t>
            </a:r>
            <a:endParaRPr b="0" lang="en-US" sz="32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things you just have to know.  You can’t possibly write a winning sales proposal unless you know:</a:t>
            </a:r>
            <a:endParaRPr b="0" lang="en-US" sz="2000" spc="-1" strike="noStrike">
              <a:solidFill>
                <a:srgbClr val="000000"/>
              </a:solidFill>
              <a:latin typeface="Tahoma"/>
            </a:endParaRPr>
          </a:p>
          <a:p>
            <a:pPr marL="60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100000"/>
              </a:lnSpc>
              <a:spcBef>
                <a:spcPts val="499"/>
              </a:spcBef>
              <a:buClr>
                <a:srgbClr val="3333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factual information about the buyer.</a:t>
            </a:r>
            <a:endParaRPr b="0" lang="en-US" sz="2000" spc="-1" strike="noStrike">
              <a:solidFill>
                <a:srgbClr val="000000"/>
              </a:solidFill>
              <a:latin typeface="Tahoma"/>
            </a:endParaRPr>
          </a:p>
          <a:p>
            <a:pPr marL="609480" indent="-609480" algn="just">
              <a:lnSpc>
                <a:spcPct val="100000"/>
              </a:lnSpc>
              <a:spcBef>
                <a:spcPts val="499"/>
              </a:spcBef>
              <a:buClr>
                <a:srgbClr val="3333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yer’s strategies and tactics.</a:t>
            </a:r>
            <a:endParaRPr b="0" lang="en-US" sz="2000" spc="-1" strike="noStrike">
              <a:solidFill>
                <a:srgbClr val="000000"/>
              </a:solidFill>
              <a:latin typeface="Tahoma"/>
            </a:endParaRPr>
          </a:p>
          <a:p>
            <a:pPr marL="609480" indent="-609480" algn="just">
              <a:lnSpc>
                <a:spcPct val="100000"/>
              </a:lnSpc>
              <a:spcBef>
                <a:spcPts val="499"/>
              </a:spcBef>
              <a:buClr>
                <a:srgbClr val="3333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otential application of your product — how it fits in with the buyer’s business.</a:t>
            </a:r>
            <a:endParaRPr b="0" lang="en-US" sz="2000" spc="-1" strike="noStrike">
              <a:solidFill>
                <a:srgbClr val="000000"/>
              </a:solidFill>
              <a:latin typeface="Tahoma"/>
            </a:endParaRPr>
          </a:p>
          <a:p>
            <a:pPr marL="609480" indent="-609480" algn="just">
              <a:lnSpc>
                <a:spcPct val="100000"/>
              </a:lnSpc>
              <a:spcBef>
                <a:spcPts val="499"/>
              </a:spcBef>
              <a:buClr>
                <a:srgbClr val="3333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he buyer stands to benefit.</a:t>
            </a:r>
            <a:endParaRPr b="0" lang="en-US" sz="2000" spc="-1" strike="noStrike">
              <a:solidFill>
                <a:srgbClr val="000000"/>
              </a:solidFill>
              <a:latin typeface="Tahoma"/>
            </a:endParaRPr>
          </a:p>
          <a:p>
            <a:pPr marL="609480" indent="-609480" algn="just">
              <a:lnSpc>
                <a:spcPct val="100000"/>
              </a:lnSpc>
              <a:spcBef>
                <a:spcPts val="499"/>
              </a:spcBef>
              <a:buClr>
                <a:srgbClr val="3333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makes the decisions at the buying company and how they’re mad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DC099CF-C89C-4D72-B531-4C7ADB8779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pturing basic buyer information.</a:t>
            </a:r>
            <a:r>
              <a:rPr b="0" lang="en-US" sz="2000" spc="-1" strike="noStrike">
                <a:solidFill>
                  <a:srgbClr val="000000"/>
                </a:solidFill>
                <a:latin typeface="Verdana"/>
              </a:rPr>
              <a:t>  Before you can sell your product, you have to know who you’re selling it to.  Basic buyer information is the who, what, and where information that you need before you can start in-depth conversation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e looking for th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er name and addres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siness, industry, or profession.  Get the type, size, trends, and competition.</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nual revenues, net profits, number of locations, and number of employe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0D3E0C1-1B18-4B9B-85E1-9254BCCFC2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Verdana"/>
              </a:rPr>
              <a:t>Management (cont’d.)</a:t>
            </a:r>
            <a:endParaRPr b="0" lang="en-US" sz="36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should, incidentally, pay the most attention to the section pertaining to the person making the most difference to the business: You!</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 sure to include in the descriptive paragraphs such information as education, prior positions, and noteworthy achievements.  Remember you are selling your management team to the reader; don’t leave out the important elements.</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ou use the business plan only as a road map and not as an inducement for investment, the management summary is less importa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077E22D-FD8C-4D00-9CFC-1A92CECD1B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and secondary contact names, titles, mail and e-mail address, and phone and fax number.</a:t>
            </a:r>
            <a:endParaRPr b="0" lang="en-US" sz="2000" spc="-1" strike="noStrike">
              <a:solidFill>
                <a:srgbClr val="000000"/>
              </a:solidFill>
              <a:latin typeface="Tahom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necting to the buyer’s strategies and tactics</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 – usually mean plans for making something happen.  Most companies have many strategies.  They result from strategic planning activities.</a:t>
            </a:r>
            <a:endParaRPr b="0" lang="en-US" sz="2000" spc="-1" strike="noStrike">
              <a:solidFill>
                <a:srgbClr val="000000"/>
              </a:solidFill>
              <a:latin typeface="Tahoma"/>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ctics – usually mean methods or approaches that the buyer uses to implement the strategies.  Think of it this way:  Strategies lead to tactic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8979DA5-DCB0-48DA-ADE5-698E0C29EF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member:</a:t>
            </a:r>
            <a:r>
              <a:rPr b="0" lang="en-US" sz="2000" spc="-1" strike="noStrike">
                <a:solidFill>
                  <a:srgbClr val="000000"/>
                </a:solidFill>
                <a:latin typeface="Verdana"/>
              </a:rPr>
              <a:t>  Be persistent in trying to identify buyer strategies that are relevant to the product you plan to propose.  Don’t worry about discovering irrelevant buyer strategies during your sales process.  Even information that’s irrelevant to your products lets you better understand a buyer’s overall company and business practices.</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fining how your products fits the picture.  </a:t>
            </a:r>
            <a:r>
              <a:rPr b="0" lang="en-US" sz="2000" spc="-1" strike="noStrike">
                <a:solidFill>
                  <a:srgbClr val="000000"/>
                </a:solidFill>
                <a:latin typeface="Verdana"/>
              </a:rPr>
              <a:t>At some point in the process, you need to picture your product in the client’s business.  Doing so isn’t as easy as you may think.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ED8D081-A5DA-410A-B6D5-BEB9348580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with the facts — what you really should already know if you’re selling the product.</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t your existing customers and find out how they use your products or services — work to understand their unique applications.</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lk to product or service experts in your company (usually the people who install your products or deliver your services to customers.  </a:t>
            </a:r>
            <a:endParaRPr b="0" lang="en-US" sz="2000" spc="-1" strike="noStrike">
              <a:solidFill>
                <a:srgbClr val="000000"/>
              </a:solidFill>
              <a:latin typeface="Tahoma"/>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you have this information, think about how the product will operate in the buyer’s business.  </a:t>
            </a:r>
            <a:endParaRPr b="0" lang="en-US" sz="2000" spc="-1" strike="noStrike">
              <a:solidFill>
                <a:srgbClr val="000000"/>
              </a:solidFill>
              <a:latin typeface="Tahoma"/>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23D81F7-C6BD-44A1-9DA0-DD3B95E24B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ing key performance indicators to calculate the buyer’s benefits.</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rst, you decide how to calculate the financial benefits of your product or service.    While you develop the financial benefits calculation, you discover what financial variables you need from the buyer — the key performance indicators. ( Key performance indicators are the numbers the buyers uses to measure how well its business is doing.)  Then you ask the buyer if it uses these key performance indicators to measure its performance.  If it does, you just get the current values.  If it doesn’t, you need to work with the buyer to calculate them.  After you go through the steps a few times in real life, they become pretty eas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92CF14B-68C6-4D5A-913E-936337B03D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member:</a:t>
            </a:r>
            <a:r>
              <a:rPr b="0" lang="en-US" sz="2000" spc="-1" strike="noStrike">
                <a:solidFill>
                  <a:srgbClr val="000000"/>
                </a:solidFill>
                <a:latin typeface="Verdana"/>
              </a:rPr>
              <a:t>  Identifying a buyer’s key performance indicators is a critical activity in your consultative sales process.</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ulling the decision in your direction by understanding how the decision get made.</a:t>
            </a:r>
            <a:endParaRPr b="0" lang="en-US" sz="20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t change your buyer’s decision-making process.  But you can make some changes to your sales process and tailor the content of your sales proposal to help pull the decision in your directio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4207801-CF99-47C8-A714-0135AEA4E2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 need to understand:</a:t>
            </a:r>
            <a:endParaRPr b="0" lang="en-US" sz="1800" spc="-1" strike="noStrike">
              <a:solidFill>
                <a:srgbClr val="000000"/>
              </a:solidFill>
              <a:latin typeface="Tahoma"/>
            </a:endParaRPr>
          </a:p>
          <a:p>
            <a:pPr lvl="1" marL="743040" indent="-28584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the company makes buying decisions.</a:t>
            </a:r>
            <a:endParaRPr b="0" lang="en-US" sz="1800" spc="-1" strike="noStrike">
              <a:solidFill>
                <a:srgbClr val="000000"/>
              </a:solidFill>
              <a:latin typeface="Tahoma"/>
            </a:endParaRPr>
          </a:p>
          <a:p>
            <a:pPr lvl="1" marL="743040" indent="-28584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the final decision makers are and how each may influence the decision.</a:t>
            </a:r>
            <a:endParaRPr b="0" lang="en-US" sz="1800" spc="-1" strike="noStrike">
              <a:solidFill>
                <a:srgbClr val="000000"/>
              </a:solidFill>
              <a:latin typeface="Tahoma"/>
            </a:endParaRPr>
          </a:p>
          <a:p>
            <a:pPr lvl="1" marL="743040" indent="-28584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the buyer will evaluate and select a vendor — what are its </a:t>
            </a:r>
            <a:r>
              <a:rPr b="0" i="1" lang="en-US" sz="1800" spc="-1" strike="noStrike">
                <a:solidFill>
                  <a:srgbClr val="000000"/>
                </a:solidFill>
                <a:latin typeface="Verdana"/>
              </a:rPr>
              <a:t>selection criteria.</a:t>
            </a:r>
            <a:endParaRPr b="0" lang="en-US" sz="1800" spc="-1" strike="noStrike">
              <a:solidFill>
                <a:srgbClr val="000000"/>
              </a:solidFill>
              <a:latin typeface="Tahoma"/>
            </a:endParaRPr>
          </a:p>
          <a:p>
            <a:pPr lvl="1" marL="743040" indent="-28584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the most important selection criteria are.</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process and the people.</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Your goal should be to know as much as you can about the buyer’s decision-making process and who makes the buying decisions.  Whether it’s one person or a committee, you’ll want to shape your selling activities and your proposal to favorable influence the decision maker or decision makers.</a:t>
            </a:r>
            <a:endParaRPr b="0" lang="en-US" sz="1800" spc="-1" strike="noStrike">
              <a:solidFill>
                <a:srgbClr val="000000"/>
              </a:solidFill>
              <a:latin typeface="Tahom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807ABAFC-C91E-4989-84E5-AF34EB1203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lection criteria</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As part of its decision-making process, a buyer probably uses selection criteria to evaluate competing products and vendors.  In some cases, the buyer has a written list of well-defined criteria.  Other buyers have an informal set of criteria.  Some of the questions a buyer asks in a request for proposal (RFP) are the buyer’s selection criteria.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5E79340-127C-4575-9B6F-1F3C6290C5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selection criteria are extremely generic and common. Your sales proposal should include this information:</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eller’s reputation.</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ther the seller has other clients of a similar size and type as the buyer.</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ther the seller has references that can be verified from companies that have bought the product.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44EF907-6691-4BB8-B6AD-4FF4A2BB79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Buyer Information Categories (cont’d.)</a:t>
            </a:r>
            <a:endParaRPr b="0" lang="en-US" sz="32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anking selection criteria.</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Knowing a buyer’s selection criteria gives you valuable insight into how it plans to pick the winning product and vendor.  The criteria help you understand what the buyer really thinks is important.  It is important to remember, if you can identify and rank a buyer’s selection criteria, you can identify where your company has advantages and disadvantages over the competition.  Knowing where your company has a competitive edge will help your sales effort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5B5FAE7-315C-4E29-BF57-B22526C276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80/20 Rule for Sales Proposals</a:t>
            </a:r>
            <a:endParaRPr b="0" lang="en-US" sz="32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80/20 rules state that 20 percent of something causes 80 percent of something else.  Remember the 80/20 rule used to define a company’s key accounts:  80 percent of the company’s revenue comes from 20 percent of your customers.  What this means to you: focus your time and energy on those customers who have the potential to be profitable.  Stop wasting your time on those who don’t.</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proposal should follow this 80/20 rule: 80 percent of the wording in a company’s sales proposal is the same for most customers; the remaining 20 percent is specific to the buyer.</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E25D558-17AB-4147-8DB6-DDBC4103C1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Verdana"/>
              </a:rPr>
              <a:t>Management (cont’d.)</a:t>
            </a:r>
            <a:endParaRPr b="0" lang="en-US" sz="36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ting the qualifications and employment histories of the major players on paper, however, may help you to better think through whether the players fit well together and make a complete tea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591BBE2-3BAE-4FAD-9A59-51B8303565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80/20 Rule for Sales Proposals (cont’d.)</a:t>
            </a:r>
            <a:endParaRPr b="0" lang="en-US" sz="32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80/20 “rule” is really just a generalization.  Don’t feel like you must have exactly 80 percent general information and 20 percent buyer-specific information.  The numbers are somewhat flexible, depending on the nature of your business.</a:t>
            </a:r>
            <a:endParaRPr b="0" lang="en-US" sz="1800" spc="-1" strike="noStrike">
              <a:solidFill>
                <a:srgbClr val="000000"/>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 can take advantage of the 80/20 rule by using proposal models and application worksheets. (Proposal model and application worksheets are attached to the back)  </a:t>
            </a:r>
            <a:r>
              <a:rPr b="0" i="1" lang="en-US" sz="1800" spc="-1" strike="noStrike">
                <a:solidFill>
                  <a:srgbClr val="000000"/>
                </a:solidFill>
                <a:latin typeface="Verdana"/>
              </a:rPr>
              <a:t>Proposal models </a:t>
            </a:r>
            <a:r>
              <a:rPr b="0" lang="en-US" sz="1800" spc="-1" strike="noStrike">
                <a:solidFill>
                  <a:srgbClr val="000000"/>
                </a:solidFill>
                <a:latin typeface="Verdana"/>
              </a:rPr>
              <a:t>are typically built to reflect the 80/20 rule.  A proposal model is a proposal that’s 80 percent complete.  Twenty percent of its wording is missing.  Don’t’ confuse a proposal model with a boilerplate proposal.  A boilerplate proposal varies little from one buyer to the next; usually, only the buyer’s name and the price are different.</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3C0475A-F2EB-4697-B8E5-C9A06FC0EC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80/20 Rule for Sales Proposals (cont’d.)</a:t>
            </a:r>
            <a:endParaRPr b="0" lang="en-US" sz="32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n application worksheet to fill out your proposal model.  The worksheet contains the questions you need to ask in order to get the information that you need to customize a proposal model for each buyer.</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create both a proposal model and an application worksheet by following these steps:</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a sample sales proposal, ideally using information from one of your real customers.  You should end up with a proposal that is 100 percent complet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14A8A94-70E6-4FBE-9066-466131DA0B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The 80/20 Rule for Sales Proposals (cont’d.)</a:t>
            </a:r>
            <a:endParaRPr b="0" lang="en-US" sz="32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 through each section of your completed proposal and identify the standard wording (the 80 percent) and the buyer variables (the 20 percent).</a:t>
            </a:r>
            <a:endParaRPr b="0" lang="en-US" sz="1800" spc="-1" strike="noStrike">
              <a:solidFill>
                <a:srgbClr val="000000"/>
              </a:solidFill>
              <a:latin typeface="Tahoma"/>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 your application worksheet by writing a question or phrase that can prompt you to gather the information needed for each buyer variable in the proposal.  You may end up with a list of questions to ask or you may create a table that needs to be filled in, among other possibilities.</a:t>
            </a:r>
            <a:endParaRPr b="0" lang="en-US" sz="1800" spc="-1" strike="noStrike">
              <a:solidFill>
                <a:srgbClr val="000000"/>
              </a:solidFill>
              <a:latin typeface="Tahoma"/>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ally, turn the completed proposal into a proposal model by deleting the buyer variables information.  Doing so leaves blanks and empty lines.  The information you gather with your application worksheet should find a home in one of these blanks or empty line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285B2D4-028A-4934-86D8-89548BFD4897}"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yles of Management</a:t>
            </a:r>
            <a:endParaRPr b="0" lang="en-US" sz="3200" spc="-1" strike="noStrike">
              <a:solidFill>
                <a:srgbClr val="333399"/>
              </a:solidFill>
              <a:latin typeface="Tahoma"/>
            </a:endParaRPr>
          </a:p>
        </p:txBody>
      </p:sp>
      <p:sp>
        <p:nvSpPr>
          <p:cNvPr id="113" name="PlaceHolder 2"/>
          <p:cNvSpPr>
            <a:spLocks noGrp="1"/>
          </p:cNvSpPr>
          <p:nvPr>
            <p:ph/>
          </p:nvPr>
        </p:nvSpPr>
        <p:spPr>
          <a:xfrm>
            <a:off x="1182600" y="1981080"/>
            <a:ext cx="7772400" cy="415152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nagement by Objective (MBO</a:t>
            </a:r>
            <a:r>
              <a:rPr b="0" lang="en-US" sz="2000" spc="-1" strike="noStrike">
                <a:solidFill>
                  <a:srgbClr val="000000"/>
                </a:solidFill>
                <a:latin typeface="Verdana"/>
              </a:rPr>
              <a:t>)</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old-timer for sure, the basic components of MBO — setting and reaching goals — have endured and are used, to one degree or another, by many successful business.</a:t>
            </a:r>
            <a:endParaRPr b="0" lang="en-US" sz="2000" spc="-1" strike="noStrike">
              <a:solidFill>
                <a:srgbClr val="000000"/>
              </a:solidFill>
              <a:latin typeface="Tahom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rticipatory Management </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at in theory (all employees take part in determining the direction and policies of the company), participatory management can work wonders when organized carefully and phased in over long periods of time.   This requires years of training and preparing employees.</a:t>
            </a:r>
            <a:endParaRPr b="0" lang="en-US" sz="2000" spc="-1" strike="noStrike">
              <a:solidFill>
                <a:srgbClr val="000000"/>
              </a:solidFill>
              <a:latin typeface="Tahom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11342DD-B64D-4ECB-B60B-29C877DF6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yles of Management (cont’d.)</a:t>
            </a:r>
            <a:endParaRPr b="0" lang="en-US" sz="32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rticipatory management (cont’d.)</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all employees want the responsibility that goes with being behind the wheel.</a:t>
            </a:r>
            <a:endParaRPr b="0" lang="en-US" sz="2000" spc="-1" strike="noStrike">
              <a:solidFill>
                <a:srgbClr val="000000"/>
              </a:solidFill>
              <a:latin typeface="Tahoma"/>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p:</a:t>
            </a:r>
            <a:r>
              <a:rPr b="0" lang="en-US" sz="2000" spc="-1" strike="noStrike">
                <a:solidFill>
                  <a:srgbClr val="000000"/>
                </a:solidFill>
                <a:latin typeface="Verdana"/>
              </a:rPr>
              <a:t> Participatory management works for two reasons: First, given a voice in the decision-making process, employees are much more likely to make a personal commitment to the decisions reached.  Secondly, given the fact that employees see the business through eyes that the owners don’t, their input enhances the quality of the decis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F48B3E2-7281-46CD-B146-02F335BCD0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Styles of Management (cont’d.)</a:t>
            </a:r>
            <a:endParaRPr b="0" lang="en-US" sz="32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ployee Ownership</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many people, there is no better motivator than ownership.  That is why, despite the problem of sharing the pie, there is more and more pie-sharing going on than ever before.  The only big expense is the eventual cost to the company of buying out retiring employees.</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Quality Management (TQM)</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QM is an all-encompassing phrase that means “</a:t>
            </a:r>
            <a:r>
              <a:rPr b="0" i="1" lang="en-US" sz="2000" spc="-1" strike="noStrike">
                <a:solidFill>
                  <a:srgbClr val="000000"/>
                </a:solidFill>
                <a:latin typeface="Verdana"/>
              </a:rPr>
              <a:t>the involving and empowering of employees to increase profits by increasing quality, increasing focus on the customer, and decreasing cos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3F3F234-EFA1-4D13-8E61-A560AA1254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1T19:05:49Z</dcterms:created>
  <dc:creator>Pete Homer</dc:creator>
  <dc:description/>
  <dc:language>en-US</dc:language>
  <cp:lastModifiedBy>Pete Homer</cp:lastModifiedBy>
  <dcterms:modified xsi:type="dcterms:W3CDTF">2002-05-29T18:54:20Z</dcterms:modified>
  <cp:revision>254</cp:revision>
  <dc:subject/>
  <dc:title>National Indian Business Association</dc:title>
</cp:coreProperties>
</file>